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E8E-A0AC-4F3F-99C7-C07294D9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CA0-67EF-4A72-B1CD-E2D8E4C5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699-842C-45AA-B3EA-DDA65454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8CA-08DB-48FF-AE96-0DA7449A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657D-F1A2-447E-BE14-47F70B96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570-7038-4F61-BAC8-0C9142E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FF4D-1439-420D-9B46-6437DF25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ACA-EEC9-431B-AAB8-4FCA9D59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95F7-CA8D-4015-880C-EBA00A4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EBC1-E9F7-4D69-9496-D4B7D07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F748-E84C-4A42-94A8-A68B86C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69B-AB6B-4847-B5CF-54B23E60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06AE-6550-42BE-9AE2-C074C1E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031-B796-4AEE-BD39-614F8AF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A88-E439-4493-82C5-FE9D50B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8F9-157C-429C-998F-85AA9D3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34CB-3962-4048-8893-B11911E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D97-4938-4E5F-A04F-E438C70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C36-296B-4D8C-9C30-2C9EE243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CBC-084E-4BEE-BFF9-0A6DD84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F46-ED3C-4897-A7E0-F75473E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DA3-D70A-4928-BC3B-FE99790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6E5-E4E2-468C-85AB-5A88BAB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F80-404E-4136-A4B7-A99AA7A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62DCC-507A-4E41-AA29-F5833D651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DF2F-07DD-4F53-B739-7783AEC8D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-in to Age of Enlighte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nditions were in place prior to this mov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Aspects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rd would summon vassals; vassals enlist sub-vassals; Nobles unite to repel invasion; Crops and property destroyed; Casualties min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ed comfort but provided defense; located on elevated ground, constructed of heavy wood or thick stone, surrounded by m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Aspects of Feudalism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Peac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rd hunted wil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d mock ba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young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training--at 21 becomes K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Chiva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yalty to God; Protection of oppressed; support of justice; defense of Christianity; courage, courtesy, gallantry, gene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Economic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-sufficient Agricultural Ma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rm, the lord’s castle and village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d Dictates th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Slave nor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gations-services, payment in 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verished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Agricultur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ppearance of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s Leading to Dec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wars to reclaim holy land from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ned economic basis by awakening demand for Eastern goods.  Towns grew and serfs fled to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e of National States and Absolute Mon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Government gradually regained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issance: Rebirth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th to 17th Centu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val of art, literature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between medieval and mod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with rediscovery of Greco-Roman civ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d reason, a questioning attitude, experimentation, and free inqu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issanc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rified the individual and approved worldly pleasures, viewing life as worthwhile for its own s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attention on worldly matters arising out of a secular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d great achievements in literature, art, an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rigid class distinctions and static, or unchanging, way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local government and local military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self-sufficient agricultural ma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d Where W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udalism Practic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was the predominant means of political, social, and economic organiza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stern Eur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ing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dle 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dieval Age):  approx. 500 C.E. - 1500 C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has existed in other places and times as well, most notably in Medieval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ise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 of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Government could not protect its subjects.  Small Farmers surrendered lands to local noble in exchange for promise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Policy of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rs granted landed estates to the important nobles in return for pledges of military as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id Class Disti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 society sharply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-holding nobles (aristocracy, upper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ass of peasants (serfs, lower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termined by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f couldn’t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 Social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wned all the land but controlled only his own estates, royal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Lords below the king served as vassals.  Received land grants (fiefs)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eturn for allegiance and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Lords were vassals of the powerful lords and received fiefs in exchange for allegiance and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ghts constituted the bulk of the feudal ar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 Social Pyramid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fs outnumbered the entire n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ed Vassal Lord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esser lords received fiefs from different higher lords, they were vassals to several lords. Primary Allegiance led to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 Hereditar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Obligations between lord and vassal were usually heredi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’s title and property could be inherited only by his first born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controlled entire kingdom, couldn’t exercise authority beyond royal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gorous Loc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weak King, local nobles controlled their territory.  Nobles made laws, levied taxes, dispensed justice and wage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3:47:33Z</dcterms:created>
  <dc:creator>WSD User</dc:creator>
  <dc:description/>
  <dc:language>en-US</dc:language>
  <cp:lastModifiedBy/>
  <dcterms:modified xsi:type="dcterms:W3CDTF">2010-09-13T03:04:10Z</dcterms:modified>
  <cp:revision>2</cp:revision>
  <dc:subject/>
  <dc:title>Lead-in to Age of Enlightenment</dc:title>
</cp:coreProperties>
</file>